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338A-5A7B-4F86-BA42-54E84330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27D5-820D-42CC-BD5D-E00271D9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271-3BA5-4E2C-85F7-6432A899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5D2-A6E3-4E8F-BA8A-51F7EBDC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09F7-AD52-4DE1-818C-7CCFBB02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7F10-6224-4C1B-BBAC-9646961B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8467-9EAF-4115-819A-6DAD0C22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3D6D-75F9-4E6B-B888-20069989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A0D8-2142-44E1-A640-839EDD5D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C06E-0919-4B6D-AE3D-4F3C04ED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2306-9109-4100-99A9-9470E213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5BB-BFD2-4738-B959-FA91FA7A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5BF9-5A91-4D14-8A68-71126E42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81B3-AC23-4D8C-A4B7-44087A11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0D62-D7A2-4F27-B59F-31C779E5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0E02-4179-4ED2-B0AE-149220E9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F639-8C30-4E95-B225-C2FABDB1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31E-309F-4536-9122-D0910F50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74D7-7620-4CED-A334-978D0776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012-016C-416E-BC71-9F3BCC2B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3E4-CEA8-4782-94F9-8F1F9C96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645-2964-4B55-9A78-FB9ABEE7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768E-C616-4DA9-98B5-4E24F572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8CA-A088-46B8-AEF3-093B5986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hr-HR" sz="6000" spc="-1" strike="noStrike">
                <a:solidFill>
                  <a:srgbClr val="000000"/>
                </a:solidFill>
                <a:latin typeface="Calibri Light"/>
              </a:rPr>
              <a:t>Uredite stil naslova matrice</a:t>
            </a:r>
            <a:endParaRPr b="0" lang="sr-Latn-R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hr-H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hr-H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hr-H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F3FAA3-0999-4ABA-AE9A-3A453CF44F7B}" type="slidenum">
              <a:rPr b="0" lang="hr-H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Uredite stil naslova matrice</a:t>
            </a:r>
            <a:endParaRPr b="0" lang="sr-Latn-R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redite stilove teksta matrice</a:t>
            </a: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ruga razina</a:t>
            </a:r>
            <a:endParaRPr b="0" lang="sr-Latn-R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Treća razina</a:t>
            </a: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Četvrta razina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Peta razina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hr-H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hr-H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hr-H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C43250-2341-4B4B-8A6C-484A24F7E355}" type="slidenum">
              <a:rPr b="0" lang="hr-H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2426400"/>
            <a:ext cx="9143640" cy="129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0000"/>
          </a:bodyPr>
          <a:p>
            <a:pPr indent="0" algn="ctr">
              <a:lnSpc>
                <a:spcPct val="150000"/>
              </a:lnSpc>
              <a:buNone/>
            </a:pPr>
            <a:br>
              <a:rPr sz="2000"/>
            </a:b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PUT-UP ISTRE</a:t>
            </a:r>
            <a:br>
              <a:rPr sz="2000"/>
            </a:br>
            <a:r>
              <a:rPr b="1" lang="hr-HR" sz="2700" spc="-1" strike="noStrike">
                <a:solidFill>
                  <a:srgbClr val="000000"/>
                </a:solidFill>
                <a:latin typeface="Calibri"/>
              </a:rPr>
              <a:t>PROVEDENE AKTIVNOSTI I FINANCIJSKI IZVJEŠTAJ GRADA PULE</a:t>
            </a:r>
            <a:endParaRPr b="0" lang="sr-Latn-R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878640"/>
            <a:ext cx="914364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3. Sastanak projektnih partnera i Stručne radne grupe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Karmela Maren, mag. ing. a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jubljana, 25.09.20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O:\Prostorno Planiranje\Karmela\PUT UP ISTRE\08_LOGOTIP\put-up_logo_color_CMYK.jpg"/>
          <p:cNvPicPr/>
          <p:nvPr/>
        </p:nvPicPr>
        <p:blipFill>
          <a:blip r:embed="rId1"/>
          <a:stretch/>
        </p:blipFill>
        <p:spPr>
          <a:xfrm>
            <a:off x="8750160" y="44640"/>
            <a:ext cx="1522080" cy="86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526640" y="5949360"/>
            <a:ext cx="3153240" cy="575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O:\Prostorno Planiranje\Karmela\PUT UP ISTRE\08_LOGOTIP\logo\si-hr_logo_croatian_hr\4C\OP_SI-HR_hr_rgb.jpg"/>
          <p:cNvPicPr/>
          <p:nvPr/>
        </p:nvPicPr>
        <p:blipFill>
          <a:blip r:embed="rId3"/>
          <a:stretch/>
        </p:blipFill>
        <p:spPr>
          <a:xfrm>
            <a:off x="1847520" y="188640"/>
            <a:ext cx="2345400" cy="57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5591880" y="1196640"/>
            <a:ext cx="1037160" cy="1229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Provedene aktivnosti_RP1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81080" y="2205000"/>
            <a:ext cx="8229240" cy="38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otpisivanje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Sporazuma o partnerstvu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, Pula, 18.05.2015.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Sudjelovanje na prvom sastanku </a:t>
            </a:r>
            <a:r>
              <a:rPr b="0" lang="hr-HR" sz="1600" spc="-1" strike="noStrike">
                <a:solidFill>
                  <a:srgbClr val="000000"/>
                </a:solidFill>
                <a:latin typeface="AcadEref"/>
              </a:rPr>
              <a:t>→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Kick off meeting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 Buzetu, 20.05.2015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ISARR </a:t>
            </a:r>
            <a:r>
              <a:rPr b="1" lang="hr-HR" sz="1600" spc="-1" strike="noStrike">
                <a:solidFill>
                  <a:srgbClr val="000000"/>
                </a:solidFill>
                <a:latin typeface="AcadEref"/>
              </a:rPr>
              <a:t>→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instalacija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1076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nos troškova u ISARR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I. Izvješće partnera o napretku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(IA1_izvješće o aktivnostima + FI1_financijsko izvješće) </a:t>
            </a:r>
            <a:r>
              <a:rPr b="0" lang="hr-HR" sz="1600" spc="-1" strike="noStrike">
                <a:solidFill>
                  <a:srgbClr val="000000"/>
                </a:solidFill>
                <a:latin typeface="AcadEref"/>
              </a:rPr>
              <a:t>→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NACIONALNI KONTROLORI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Sastanak u Puli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, 20.07.2015. </a:t>
            </a:r>
            <a:r>
              <a:rPr b="0" lang="hr-HR" sz="1600" spc="-1" strike="noStrike">
                <a:solidFill>
                  <a:srgbClr val="000000"/>
                </a:solidFill>
                <a:latin typeface="AcadEref"/>
              </a:rPr>
              <a:t>→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sastanak projektnih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artnera, sastanak stručne radne grupe, sastanak upravnog odbora.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buNone/>
            </a:pP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3600"/>
              </a:lnSpc>
              <a:spcBef>
                <a:spcPts val="1001"/>
              </a:spcBef>
              <a:buNone/>
            </a:pPr>
            <a:endParaRPr b="0" lang="sr-Latn-R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ts val="36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sr-Latn-R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Provedene aktivnosti_RP3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1080" y="2205000"/>
            <a:ext cx="8229240" cy="39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36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Nabava usluge izrade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ELABORATA ZAŠTITE OKOLIŠA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pućeni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ozivi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za dostavu ponude na tri adrese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primljena je jedna važeća ponuda te je ista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odabrana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kao najbolja ponud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regovaračko izvješće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 postupke sa samo jednom ponudom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ripremljene i dostavljene podloge potrebne za izradu Elaborata te je s ponuditeljem potpisan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ugovor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o izradi Elaborata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primljeni izrađeni Elaborat zaštite okoliša proslijeđen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ministarstvu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na ocjenu o potrebi procjene utjecaja na okoliš.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Provedene aktivnosti_RP3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81080" y="2205000"/>
            <a:ext cx="8229240" cy="37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9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Nabava rob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ARCGIS MREŽNA LICENCA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pućeni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ozivi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za dostavu ponude na tri adrese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primljena je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jedna važeća ponuda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te je ista odabrana kao najbolja ponud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regovaračko izvješće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 postupke sa samo jednom ponudom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onuditelju poslana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narudžbenica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primljeni materijali nužni za instalaciju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izvršena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instalacija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programa na računalima.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36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Sastanak u Puli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, 20.07.2015.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36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Grad Pula - Gradska općina Kopar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rijenos dobre prakse iz Kopra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3600"/>
              </a:lnSpc>
              <a:spcBef>
                <a:spcPts val="1001"/>
              </a:spcBef>
              <a:buNone/>
            </a:pP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sr-Latn-R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Provedene aktivnosti_RP4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81080" y="2205000"/>
            <a:ext cx="822924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ress konferencija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 Puli, 18.05.2015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otpisivanje Sporazuma o partnerstvu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685800" indent="0">
              <a:lnSpc>
                <a:spcPts val="2999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36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sr-Latn-R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  <p:sp>
        <p:nvSpPr>
          <p:cNvPr id="112" name="Content Placeholder 2"/>
          <p:cNvSpPr/>
          <p:nvPr/>
        </p:nvSpPr>
        <p:spPr>
          <a:xfrm>
            <a:off x="1981080" y="3933000"/>
            <a:ext cx="82292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4000"/>
          </a:bodyPr>
          <a:p>
            <a:pPr marL="348480" indent="-348480">
              <a:lnSpc>
                <a:spcPts val="36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Ažuriranje dokumentacije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iz prijavnic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tekstualne izmjene, dostava informativnih ponu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>
              <a:lnSpc>
                <a:spcPts val="36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rezentacija projekta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interesiranim čimbenicima unutar Grada P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>
              <a:lnSpc>
                <a:spcPts val="36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riprema odgovora na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novinarska pitanja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vezana uz financiranje Grada Pule u sklopu projek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>
              <a:lnSpc>
                <a:spcPts val="36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Ishođeno oslobođenje od plaćanja PDV-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>
              <a:lnSpc>
                <a:spcPts val="36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le 1"/>
          <p:cNvSpPr/>
          <p:nvPr/>
        </p:nvSpPr>
        <p:spPr>
          <a:xfrm>
            <a:off x="2135520" y="3222000"/>
            <a:ext cx="82292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Ostale provedene aktivno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Aktivnosti u tijeku/planirane aktivnosti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81080" y="2205000"/>
            <a:ext cx="8002800" cy="39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36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Trenutno je u izradi dokumentacija potrebna za provedbu nabave usluge izrade          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IDEJNOG PROJEKTA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REĐENJA RIVE U PULI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36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Tijekom sljedećih dva mjeseca planirana je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edukacija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ArcGIS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programa za dva djelatnika u trajanju od ukupno 12 dana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Troškovi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Content Placeholder 7"/>
          <p:cNvGraphicFramePr/>
          <p:nvPr/>
        </p:nvGraphicFramePr>
        <p:xfrm>
          <a:off x="2711520" y="2853000"/>
          <a:ext cx="6768360" cy="972000"/>
        </p:xfrm>
        <a:graphic>
          <a:graphicData uri="http://schemas.openxmlformats.org/drawingml/2006/table">
            <a:tbl>
              <a:tblPr/>
              <a:tblGrid>
                <a:gridCol w="3384360"/>
                <a:gridCol w="1692000"/>
                <a:gridCol w="1692000"/>
              </a:tblGrid>
              <a:tr h="32400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oškovi od 01.08.2015.do 25.09.201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t zaštite okoliš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 000 k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689,36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cGIS mrežna licen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 990 k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214,67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22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26" name="Content Placeholder 7"/>
          <p:cNvGraphicFramePr/>
          <p:nvPr/>
        </p:nvGraphicFramePr>
        <p:xfrm>
          <a:off x="2711520" y="4240080"/>
          <a:ext cx="6768360" cy="683640"/>
        </p:xfrm>
        <a:graphic>
          <a:graphicData uri="http://schemas.openxmlformats.org/drawingml/2006/table">
            <a:tbl>
              <a:tblPr/>
              <a:tblGrid>
                <a:gridCol w="3384360"/>
                <a:gridCol w="1692000"/>
                <a:gridCol w="1692000"/>
              </a:tblGrid>
              <a:tr h="35676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nirane aktivnosti do 31.12.2015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kacija  za korištenje ArcGIS-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422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Content Placeholder 7"/>
          <p:cNvGraphicFramePr/>
          <p:nvPr/>
        </p:nvGraphicFramePr>
        <p:xfrm>
          <a:off x="2711520" y="1989000"/>
          <a:ext cx="6768360" cy="683640"/>
        </p:xfrm>
        <a:graphic>
          <a:graphicData uri="http://schemas.openxmlformats.org/drawingml/2006/table">
            <a:tbl>
              <a:tblPr/>
              <a:tblGrid>
                <a:gridCol w="3384360"/>
                <a:gridCol w="1692000"/>
                <a:gridCol w="1692000"/>
              </a:tblGrid>
              <a:tr h="35676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oškovi od 02.02.2015.do 31.07.2015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osobl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de-DE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.793,51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de-DE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hr-HR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de-DE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hr-HR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2</a:t>
                      </a:r>
                      <a:r>
                        <a:rPr b="0" lang="de-DE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,</a:t>
                      </a:r>
                      <a:r>
                        <a:rPr b="0" lang="hr-HR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3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38640" y="2426400"/>
            <a:ext cx="9143640" cy="129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50000"/>
              </a:lnSpc>
              <a:buNone/>
            </a:pPr>
            <a:br>
              <a:rPr sz="2000"/>
            </a:b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HVALA NA PAŽNJI</a:t>
            </a:r>
            <a:endParaRPr b="0" lang="sr-Latn-R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O:\Prostorno Planiranje\Karmela\PUT UP ISTRE\08_LOGOTIP\put-up_logo_color_CMYK.jpg"/>
          <p:cNvPicPr/>
          <p:nvPr/>
        </p:nvPicPr>
        <p:blipFill>
          <a:blip r:embed="rId1"/>
          <a:stretch/>
        </p:blipFill>
        <p:spPr>
          <a:xfrm>
            <a:off x="8750160" y="44640"/>
            <a:ext cx="1522080" cy="86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526640" y="5949360"/>
            <a:ext cx="3153240" cy="57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O:\Prostorno Planiranje\Karmela\PUT UP ISTRE\08_LOGOTIP\logo\si-hr_logo_croatian_hr\4C\OP_SI-HR_hr_rgb.jpg"/>
          <p:cNvPicPr/>
          <p:nvPr/>
        </p:nvPicPr>
        <p:blipFill>
          <a:blip r:embed="rId3"/>
          <a:stretch/>
        </p:blipFill>
        <p:spPr>
          <a:xfrm>
            <a:off x="1847520" y="188640"/>
            <a:ext cx="2345400" cy="57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5591880" y="1196640"/>
            <a:ext cx="1037160" cy="1229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sustava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sustava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358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8T13:37:26Z</dcterms:created>
  <dc:creator>Sandro Krizman</dc:creator>
  <dc:description/>
  <dc:language>en-US</dc:language>
  <cp:lastModifiedBy>Karmela Maren</cp:lastModifiedBy>
  <dcterms:modified xsi:type="dcterms:W3CDTF">2015-09-21T07:11:43Z</dcterms:modified>
  <cp:revision>3</cp:revision>
  <dc:subject/>
  <dc:title>PUT-UP ISTRE PROVEDENE AKTIVNOSTI I FINANCIJSKI IZVJEŠTAJ GRADA PU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Custom</vt:lpwstr>
  </property>
  <property fmtid="{D5CDD505-2E9C-101B-9397-08002B2CF9AE}" pid="3" name="Slides">
    <vt:r8>8</vt:r8>
  </property>
</Properties>
</file>